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DCF-0AFE-4497-8DBA-789A1E815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E9E0-8186-416A-B337-06975D4A1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C55B-56DB-44D2-B7F6-1393B0C07A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84F7-0403-496E-BA96-3BB3FAFE1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A752-D09F-43C2-8C0B-9D719EABCD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D04B-B1DB-4906-9E58-11BE1E3E3C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28F-F000-4B8E-9C55-065663D1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9F4-8839-4A24-99D8-DAE800D4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800-DB2D-4252-BE24-CF3FFA3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B66-FA45-4722-94EF-547B72E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966-21A2-4E66-8C23-4AB0B9B7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C48-A727-447D-BCE6-7B5B299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1B5C-EC92-4F93-AA2F-FA805B1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1C6-FC06-4F36-B0D8-B9CC4C3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735-191F-452A-B5F1-C0DCE9A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198-A565-4B72-8F85-EFDA2EE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F3F-800B-4632-87BE-0433CDF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A2F-8EA3-4925-9FE4-7C5FFE1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13A4-A477-4071-8D4A-1F9F8DD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7B8E-3859-4B82-BF54-2047953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2BE-2895-4366-AEB0-5CD81C1D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FBB6-788A-4033-8158-4B2858B2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8719-C360-4ACF-A216-57FD090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16E-BA95-4653-BD9A-92E871E8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3B5-12E5-4493-A802-2CEB984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BE7-8455-41BC-82E0-7FCA90EB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F6E-9408-43E1-BAF8-AB58507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EA1-6B54-44F9-ACE1-2B3CB84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E60-DB08-40B2-989B-01A921F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4A9-D123-4DC4-BB6E-1680BBD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E2F-FE9D-49B8-A8B3-C09D241861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7EDE-0790-446C-8EBB-0D026EACD3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w.umkc.edu/faculty/projects/FTrials/conlaw/supremebuilding.jpg&amp;imgrefurl=http://www.law.umkc.edu/faculty/projects/FTrials/conlaw/supremecourtintro.html&amp;usg=__NClfUeBPD1HRTZYdhIkg9xR8Wtk=&amp;h=359&amp;w=360&amp;sz=28&amp;hl=en&amp;start=1&amp;tbnid=-a3q2IKd90FnqM:&amp;tbnh=121&amp;tbnw=121&amp;prev=/images%3Fq%3Dcourt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sgv.org/atf/cf/%257B23E96A35-4C75-41EE-BDDD-4BD3A3B59010%257D/GAVEL_COURT.JPG&amp;imgrefurl=http://www.csgv.org/site/c.pmL5JnO7KzE/b.3509331/&amp;usg=__azBWbjaBz_yXfLf6UcVPvWxEYZY=&amp;h=860&amp;w=558&amp;sz=574&amp;hl=en&amp;start=3&amp;tbnid=xDrU5E2KY2E_NM:&amp;tbnh=145&amp;tbnw=94&amp;prev=/images%3Fq%3Dcour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rH5P9XSfZ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israel.org/Eng/_Uploads/180courtHammer.jpg&amp;imgrefurl=http://www.aisrael.org/Eng/Index.asp%3FArticleID%3D180%26CategoryID%3D60&amp;usg=__H-8x1BduxpfkM9Wyf_OcCx0HYLk=&amp;h=300&amp;w=403&amp;sz=26&amp;hl=en&amp;start=20&amp;tbnid=l0l6yFu8SJ3_oM:&amp;tbnh=92&amp;tbnw=124&amp;prev=/images%3Fq%3Dcourt%26gbv%3D2%26ndsp%3D18%26hl%3Den%26sa%3DN%26start%3D1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lipart.peirceinternet.com/png/schoolhouse1.png&amp;imgrefurl=http://clipart.peirceinternet.com/educ.html&amp;usg=__fF-BrF9KRxJvTkzTKH4cKYsUnrk=&amp;h=331&amp;w=361&amp;sz=18&amp;hl=en&amp;start=13&amp;tbnid=J50M7FHvdr8NIM:&amp;tbnh=111&amp;tbnw=121&amp;prev=/images%3Fq%3Dschool%2Bhouse%26gbv%3D2%26hl%3De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2770200" y="45720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Religion in the Public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33520" y="9144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ublic Schools may not inculcate nor inhibit religion.  Schools must be places where religion and religious conviction are treated with fairness and respect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2413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ongress shall make no law respecting an establishment of religion, or prohibiting the free exercise thereof, or abridging the freedom of speech, or of the press; or the right of the people peaceably to assemble, and to petition the government for a redress of grievan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0080" y="198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First Amend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8580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have a secular purpo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have the principal or primary effect o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dvan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hibi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ctions do not foster an excessive entanglement of government with relig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5800" y="3657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Lemon v. Kurtzman    (Lemon Tes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http://tbn2.google.com/images?q=tbn:-a3q2IKd90FnqM:http://www.law.umkc.edu/faculty/projects/FTrials/conlaw/supremebuil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4572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anta Fe Independent School District v. Doe 530 U. S. 290 (2000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Court ruled prayer over a loudspeaker at a government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ponsored even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overnment property (football game on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istrict property) is a violation of the Establishment Cl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74200" y="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.  Student Pray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09480" y="227484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ablishment Clause does not prohibit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rely priv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eligious spee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 may read Bibles, say grace, say prayer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ytime it is not disruptive to the learning pro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 gatherings are ok (Meet at Pol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 may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neither discourage or encou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3520" y="17524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Student Prayer and  Religious Discus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33520" y="3962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2.  Graduation Prayers and 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3520" y="4495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e v. Weisman 505 U. S. 577 (199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uled graduation prayers unco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40000" y="54100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calaureate Activ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57200" y="5934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hool may not extend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eferent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reatment to baccalaureate ceremonies and may in some instances be obligated to disclaim official endorsement of such ceremonie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2" descr="http://tbn0.google.com/images?q=tbn:xDrU5E2KY2E_NM:http://www.csgv.org/atf/cf/%257B23E96A35-4C75-41EE-BDDD-4BD3A3B59010%257D/GAVEL_COU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5211720"/>
            <a:ext cx="1066680" cy="16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533520" y="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3.  Participation in or Encouragement of Religious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457200"/>
            <a:ext cx="77724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eachers and school administrators or employees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cting in those capacities,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are representatives of the st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r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prohibi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y the establishment claus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rom soliciting or encouragin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ligious activity, and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from participa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such activity with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loyees also are prohibited from discouraging activity because of its religious content, and from soliciting or encouraging anti-religious activ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440" y="243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4.  Religion in School Curricul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2895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eligion is a natural part of history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is included in the approved some stat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the topic is addressed,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mphasis must be purely acade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not devotio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y teach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its influence on areas such as art, music, literature, and social stud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57200" y="4572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5. Religious Content in Student Assign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09480" y="51037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may express their beliefs about relig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the form of homework, artwork, and other written and oral assignments free of discrimination based on the religious content of their submis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ch home and classroom work should be judged by ordinary academic standards of substance and relevance and against other legitimate pedagogical concerns identified by the scho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USA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990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733920" y="1981080"/>
            <a:ext cx="32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ahoma"/>
              </a:rPr>
              <a:t>Click on the flag if you wish to hear about a teacher who crossed the boundary with religion in his classro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8580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6. Distribution of  Religious Lit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09480" y="6094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oo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enerally shall not permit formal distribu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f any materials from any non-school organization, regardless of the content of the material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n school proper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Accordingly, students generally should not distribute flyers to all students on a mass level at specific established locations at the school.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can distribute information on an informal basis that is not disrup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9480" y="2438280"/>
            <a:ext cx="8077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tudents have a right to distribute religious literature to their schoolmates on the same terms as they are permitted to distribute other litera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at is unrelated to school curriculum or activities.  Schools may impose reasonable time, place, and manner on distribution of religious literature as they do on nonschool literature general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09480" y="4114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7.  Student Participation in Religious Events Before and After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85800" y="4800600"/>
            <a:ext cx="762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re is no legal reason not to allow students to participate in religious events “before and after school,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do not interfere with instructional time or the educational proc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http://tbn2.google.com/images?q=tbn:l0l6yFu8SJ3_oM:http://www.aisrael.org/Eng/_Uploads/180courtHamm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670720"/>
            <a:ext cx="21333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http://tbn0.google.com/images?q=tbn:J50M7FHvdr8NIM:http://clipart.peirceinternet.com/png/schoolhous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4648320"/>
            <a:ext cx="1152360" cy="1057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45720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hough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blic schools may teach about religious holida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including their religious aspects, and may celebrate the secular aspects of holiday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s may not observe holidays as religious ev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 promote such observance by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84200" y="3049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8.  Religious Holida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33520" y="255096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ject to applicable State laws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hool Boards may allow religious instruction off school propert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f allowed, schools may not encourage or discourage participation or penalize those who do att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06520" y="21337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9. Released Time for Religious Instr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520" y="4419720"/>
            <a:ext cx="82296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rally, if secondary public schools have 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imited open foru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(allows non-curriculum clubs to meet), the school must allow religious groups the same access to the school media, (PA system, school newspaper, bulletin board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92120" y="3733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1a"/>
                </a:solidFill>
                <a:latin typeface="Tahoma"/>
              </a:rPr>
              <a:t>10.  Federal Equal Access 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" descr="http://tbn0.google.com/images?q=tbn:mK8Yl1MTUiuAAM:http://www.easymilano.com/wp/wp-content/uploads/2009/04/us-flag.jpg"/>
          <p:cNvPicPr/>
          <p:nvPr/>
        </p:nvPicPr>
        <p:blipFill>
          <a:blip r:embed="rId3"/>
          <a:stretch/>
        </p:blipFill>
        <p:spPr>
          <a:xfrm>
            <a:off x="4419720" y="5562720"/>
            <a:ext cx="1181160" cy="88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57:45Z</dcterms:created>
  <dc:creator>Human Resources</dc:creator>
  <dc:description/>
  <dc:language>en-US</dc:language>
  <cp:lastModifiedBy>jshearer</cp:lastModifiedBy>
  <dcterms:modified xsi:type="dcterms:W3CDTF">2009-07-02T20:44:50Z</dcterms:modified>
  <cp:revision>63</cp:revision>
  <dc:subject/>
  <dc:title>S. C. Code Ann. 59-17-140</dc:title>
</cp:coreProperties>
</file>